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188-E119-45B7-9864-F6456673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484-F16D-48BD-8871-EBBCB2F1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38A-E032-4D4D-8206-A8488A36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40C-3E71-48A6-A393-9F5EDB3D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954-4634-4299-9EDE-E7CF814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324-71D0-4AC0-93CD-8207D5C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97F-68B3-45F6-A980-0E3AB932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E1B-F960-4524-A7E5-1D3DFB2D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BE7-D2BD-426B-8BDA-161E970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C04-54D3-49CB-90D2-ADFA420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7A6-61A9-4A2C-869F-2619268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10B-09CD-4F7D-BFAD-DE3F389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3F6-F80A-4125-9AC3-DD4FC9194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557360"/>
            <a:ext cx="43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1989000"/>
            <a:ext cx="43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1628640"/>
            <a:ext cx="3445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0" y="2060640"/>
            <a:ext cx="3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96000" y="1557360"/>
            <a:ext cx="3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3933720"/>
            <a:ext cx="4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95640" y="4365720"/>
            <a:ext cx="28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4581360"/>
            <a:ext cx="41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67280" y="4437000"/>
            <a:ext cx="43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Impact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076640"/>
            <a:ext cx="43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56360" y="3933720"/>
            <a:ext cx="43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64360" y="4365720"/>
            <a:ext cx="36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6000" y="549360"/>
            <a:ext cx="1323720" cy="140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9960" y="2080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paintings from austrian children behind each let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Just click on it! Have fun </a:t>
            </a:r>
            <a:r>
              <a:rPr b="0" lang="de-DE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52600" y="673200"/>
            <a:ext cx="4438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95280" y="587700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24000" y="602136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6:35:49Z</dcterms:created>
  <dc:creator>Kindergarten</dc:creator>
  <dc:description/>
  <dc:language>en-US</dc:language>
  <cp:lastModifiedBy>Kindergarten</cp:lastModifiedBy>
  <dcterms:modified xsi:type="dcterms:W3CDTF">2011-01-25T12:03:03Z</dcterms:modified>
  <cp:revision>18</cp:revision>
  <dc:subject/>
  <dc:title>Folie 1</dc:title>
</cp:coreProperties>
</file>